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C66-11CB-4F7F-8CA5-CFC44729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805F-40C0-4CA6-A821-A6DC9FF6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812A-6E58-4584-8D0B-EC8D74B1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B75-03F3-4E97-9300-292674C4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3076-FC97-4B58-9135-E59EF1EB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915A-5D95-4FBA-BE59-C83ABD13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8AC-510F-4D63-8232-9BFE349D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B79-EC3D-464C-9C5E-EA3FB198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500-31B7-46C6-9811-FD3A9A78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6471-A104-4409-941D-59F5EEDF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EC8C-10F0-4AE1-BBC2-1CF167F3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0312-7EF3-447C-951A-728F8937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AE81-7E3C-44B7-8B08-3F51A5500B9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Mis documentos\Sin título-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Mis documentos\Sin título-1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Mis documentos\Sin título-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13:00:17Z</dcterms:created>
  <dc:creator>Grupo Editorial</dc:creator>
  <dc:description/>
  <dc:language>en-US</dc:language>
  <cp:lastModifiedBy>TORRES</cp:lastModifiedBy>
  <dcterms:modified xsi:type="dcterms:W3CDTF">2010-12-18T22:20:49Z</dcterms:modified>
  <cp:revision>1</cp:revision>
  <dc:subject/>
  <dc:title>Sin título de diapositiva</dc:title>
</cp:coreProperties>
</file>